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737B-6E16-450B-A009-BD4BF08C8E7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82A1-0C0F-4668-820D-9D4BCDE1974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5503-CD62-4092-9EC1-876C2CD4BF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78A-0E03-4D95-9B31-ABBBE271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6A1-ACFC-4182-B6D6-45F14C88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369-A722-4795-9459-6D3AA6E0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9B2-20A0-43B3-8B3A-A442D4D8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D948-AC57-40C7-BF68-F7ABB182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B41F-436E-4C9A-8671-03FC738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5372-BE87-41AD-9631-B2CF8B20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1144-434F-41E8-B77A-D2443C3C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D914-CAD1-4FAC-A4A2-E26864A8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0F2D-14B1-4554-B9FC-DA43B960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C7F3-CFCB-490D-B43D-B675FD21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BD0-B939-4B84-8B91-1EFEB8FF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639F-D197-4038-BBE2-2FBC7B0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A480-9B7E-41EC-8BF4-C6FF8A2D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F10E-FF3A-4933-B4B8-3388023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3BFA-2A37-4225-9020-A83C6183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77D5-D051-4ACA-A34D-4315A351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AB25-D05D-4CAD-84D3-4EDFEE9B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C20F-9CDC-4592-BB86-B8F9859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8A4F-2F4F-42F8-A931-D8EF3D31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84BC-2C98-403C-B85D-B84DB16C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F1F8-1216-4595-89BD-FBBD27D6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645-F1CD-4F59-AB93-B356EF41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DF44-B092-430A-9338-5E675250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AE13-C2F4-420E-B453-70D0842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52498-6F93-4984-8CEE-F16248D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DBC7-84F1-451C-8182-40C0657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AC3B-6B26-4199-9B7E-1EA79228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8CDA-AAFA-47A8-836E-43AEF762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8775-4215-4547-9B79-C5E4E285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7C7E-75B4-4E6D-BFBB-A3503087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9BAE1-BEDA-4289-A9AE-BA944EFA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5B68-E202-4662-BC25-E2AE19E6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EEF-F26A-4411-8915-2AF1C907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6F51-55D0-4F67-A502-C939FA94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5730-3926-426D-8DCB-F3F41B12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5AA0-4D8C-4E74-8252-B095A0D0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38C34-AB65-4E0D-A48C-677BEA9D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15266-7342-4D7C-B274-387131B3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B4BDF-014B-4F4F-91DC-ABC63481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CE2A0-8D87-4074-969E-6893AED4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BE26-371E-4D0E-BC20-63CE641B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1AD7C-AC94-4C75-8BBE-D6D584BB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745B0-D869-48EF-884D-0AF0F7E9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6CA-9D53-4418-9667-ABD70076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A8943-8E51-4843-B273-34BEA451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492A9-7C59-419B-B86F-FC836301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A7BC-856F-4623-A458-88092146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12556-32F3-4E19-AF19-F5E46B5E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8E9C-E5A5-408E-AA1D-1C8DA20D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38244-19D9-4C9F-9C9A-7462BF44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7E47-27C5-47CF-93FE-5A086936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3AF36-E6C2-4A03-A308-F806DD2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97728-E3D0-4485-BE8B-32EE1BF6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20963-C571-409B-A765-DA7B76F0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351-8A14-4926-98FF-8121D84C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31793-C724-4ABD-BAEE-79E37F18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CF1F-57FA-41AC-853B-FE4825F3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A32E-D596-4708-8939-DD42A718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75B5A-10EC-4A84-99BA-7A988265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2710-4518-4F8C-B611-5465A5AE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826BE-C4D0-4149-A87F-BB695E11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1FB89-77AA-4F55-B084-71ADE185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2562-A294-420E-A0A3-365E787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FA4F-87E6-4B18-928B-587DF524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2205-3D64-452E-82E7-BDF941B0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1A4-6E00-428A-BA17-55FF68EB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C219B-AC44-4405-BC36-FF9D958A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47CA-18FF-4C2E-B5BE-C56B07DC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2A89C-2652-40A3-BACF-C47525AF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513-AD9D-4E88-9181-2F202C7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7D0-89F6-4DA1-B054-9836C36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ECD-F3F3-4617-8D02-89856C57A98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78F5-F81E-47E9-9AA6-EC466DE7903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3D92-0B78-40EF-8606-80022289FD9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FD8A-5C58-441A-AF5D-F3764B4BDCB9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F877-F5C1-4301-ABCA-FBCF06146F9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AEAD-E2F8-4EB3-99AD-7EEDDADC165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32D0-9AB2-4383-BC33-04C564069E0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BCFD-51E7-4745-8594-8734218E415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0933-47BD-4DDC-9DA4-626A697F4C5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532D-1172-4469-AC94-17B8462543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89B0-E55E-4895-857C-89934D47148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9209-F2BF-4154-931C-24F7B9FCE7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Mai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n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72960" y="1268280"/>
            <a:ext cx="1148400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41280" y="1484280"/>
            <a:ext cx="1151568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52216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157112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06360" y="1333440"/>
            <a:ext cx="108298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473120"/>
            <a:ext cx="108014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52440" y="1341360"/>
            <a:ext cx="107838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6-27T21:55:03Z</dcterms:modified>
  <cp:revision>415</cp:revision>
  <dc:subject/>
  <dc:title>Demografia</dc:title>
</cp:coreProperties>
</file>